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C8B76-D111-48D3-B58F-D92F20078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B6F17-0933-42D0-97F5-74DEA626A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2BABB-CB1B-490F-B094-2513AC07A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F2E0C-E87D-401A-BB5E-4B3ECCFD3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5FB1D-9073-49AC-BCFF-5EFD6445C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1FA31-4720-40F2-8F33-0D18A14A5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5EA3F-3EE2-4DAA-B489-75C351AFE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8CBA8-C3C1-44F2-AD0C-0D02C1952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03482-380C-4C77-8640-B4F4FD883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EDF00-B376-4431-9033-3400A22C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35AC3-8B2D-4C1E-81FB-F1EE61E2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7F68A-0097-4449-A6B0-B1A23690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1936-04AA-489C-AFEB-FE87195F42F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http://s56.radikal.ru/i153/0908/4e/d14b76adf10d.jpg"/>
          <p:cNvPicPr/>
          <p:nvPr/>
        </p:nvPicPr>
        <p:blipFill>
          <a:blip r:embed="rId1"/>
          <a:stretch/>
        </p:blipFill>
        <p:spPr>
          <a:xfrm>
            <a:off x="0" y="57240"/>
            <a:ext cx="9067680" cy="6800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609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e5e5ff"/>
                </a:solidFill>
                <a:latin typeface="Garamond"/>
              </a:rPr>
              <a:t>Антропогенное воздействие на окружающую среду</a:t>
            </a:r>
            <a:br>
              <a:rPr sz="7200"/>
            </a:b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Заполнить таблицу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52280" y="1752480"/>
          <a:ext cx="8839440" cy="3048120"/>
        </p:xfrm>
        <a:graphic>
          <a:graphicData uri="http://schemas.openxmlformats.org/drawingml/2006/table">
            <a:tbl>
              <a:tblPr/>
              <a:tblGrid>
                <a:gridCol w="1352520"/>
                <a:gridCol w="3532320"/>
                <a:gridCol w="3954600"/>
              </a:tblGrid>
              <a:tr h="1662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Этап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ид хозяйственной нагрузк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Экологические последстви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1386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поха первобытного общества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–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этап присваивающего хозяйств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(20-30 тыс. лет назад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4" name="Picture 2" descr="TimeRime.com - Home"/>
          <p:cNvPicPr/>
          <p:nvPr/>
        </p:nvPicPr>
        <p:blipFill>
          <a:blip r:embed="rId1"/>
          <a:stretch/>
        </p:blipFill>
        <p:spPr>
          <a:xfrm>
            <a:off x="3809880" y="1809720"/>
            <a:ext cx="522936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Первобытное общество - Картинка 14226/65"/>
          <p:cNvPicPr/>
          <p:nvPr/>
        </p:nvPicPr>
        <p:blipFill>
          <a:blip r:embed="rId1"/>
          <a:stretch/>
        </p:blipFill>
        <p:spPr>
          <a:xfrm>
            <a:off x="0" y="138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поха первобытного общества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обирательство, охота и рыболовство; усовершенствование орудий труд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поха первобытного общества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3429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испособление человека к природе, практически без нарушения ее целостности, борьба за охотничьи угодья, уничтожение животных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0" name="Picture 5" descr="Позволяют ли Ваши потребности преуспеть в бизнесе?"/>
          <p:cNvPicPr/>
          <p:nvPr/>
        </p:nvPicPr>
        <p:blipFill>
          <a:blip r:embed="rId1"/>
          <a:stretch/>
        </p:blipFill>
        <p:spPr>
          <a:xfrm>
            <a:off x="3581280" y="1504800"/>
            <a:ext cx="571500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абовладельческая эпох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676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ревние цивилизации – этап сельскохозяйственной революции; переход от присваивающего хозяйства к производящему (6-8 тыс.л.н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3" name="Picture 5" descr="Стереотипы мышления. Часть 3 SVLV - Информационный портал"/>
          <p:cNvPicPr/>
          <p:nvPr/>
        </p:nvPicPr>
        <p:blipFill>
          <a:blip r:embed="rId1"/>
          <a:stretch/>
        </p:blipFill>
        <p:spPr>
          <a:xfrm>
            <a:off x="3962520" y="2560680"/>
            <a:ext cx="518148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абовладельческая эпох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озделывание земель, развитие земледелия и скотоводства. Использование древесины как основного источника                                                                         энергии и                                                                      строительного                                                                   материал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6" name="Picture 5" descr="http://deepbrazil.com/wp-content/uploads/2010/11/Rugendas1.jpg"/>
          <p:cNvPicPr/>
          <p:nvPr/>
        </p:nvPicPr>
        <p:blipFill>
          <a:blip r:embed="rId1"/>
          <a:srcRect l="1841" t="-1604" r="-1836" b="6208"/>
          <a:stretch/>
        </p:blipFill>
        <p:spPr>
          <a:xfrm>
            <a:off x="2476440" y="2228760"/>
            <a:ext cx="666756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абовладельческая эпох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лабое преобразование основных ландшафтов; освоение поливных и богарных земель; сокращение лесных площаде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9" name="Picture 5" descr="Рабский труд и нищенская зарплата... &quot; Net23.INFO - Локальный портал сети FTTB Билайн"/>
          <p:cNvPicPr/>
          <p:nvPr/>
        </p:nvPicPr>
        <p:blipFill>
          <a:blip r:embed="rId1"/>
          <a:stretch/>
        </p:blipFill>
        <p:spPr>
          <a:xfrm>
            <a:off x="3429000" y="2257560"/>
            <a:ext cx="571500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поха Средневековья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120" y="114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Феодальное общество эпохи средневековья – появление частной собственности; разделение общества на классы; этап расширения границ Ойкумены (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XV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век н.э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2" name="Picture 5" descr="Фотография Франции. Каркассон. Каркассон - живое Средневековье"/>
          <p:cNvPicPr/>
          <p:nvPr/>
        </p:nvPicPr>
        <p:blipFill>
          <a:blip r:embed="rId1"/>
          <a:srcRect l="0" t="3705" r="0" b="5388"/>
          <a:stretch/>
        </p:blipFill>
        <p:spPr>
          <a:xfrm>
            <a:off x="-1440" y="2832120"/>
            <a:ext cx="914544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поха Средневековья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величение численности населения; совершенствование сельского хозяйства; вырубка лесов, развитие ремесел, кораблестроение; добыча минеральных ресурсов; переход к использованию вторичных природных ресурсов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5" name="Picture 5" descr="Корабль в ночи"/>
          <p:cNvPicPr/>
          <p:nvPr/>
        </p:nvPicPr>
        <p:blipFill>
          <a:blip r:embed="rId1"/>
          <a:stretch/>
        </p:blipFill>
        <p:spPr>
          <a:xfrm>
            <a:off x="2227320" y="2971800"/>
            <a:ext cx="69166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поха Средневековья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21608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еобразование ландшафтов, изменение естественного растительного покрова, иссушение болот, строительство оросительных каналов; резкое увеличение нагрузки на окружающую природную среду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8" name="Picture 5" descr="Приручение животных - Картинка 15034/22"/>
          <p:cNvPicPr/>
          <p:nvPr/>
        </p:nvPicPr>
        <p:blipFill>
          <a:blip r:embed="rId1"/>
          <a:stretch/>
        </p:blipFill>
        <p:spPr>
          <a:xfrm>
            <a:off x="2438280" y="3046320"/>
            <a:ext cx="672012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ЕРВЫЙ ПУНКТ ЛЕКЦИИ ПРОЧИТАТЬ.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О ВТОРОМУ ПУНКТУ ЗАПОЛНИТЬ ТАБЛИЦУ.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О ТРЕТЬЕМУ ПУНКТУ ВЫПИСАТЬ ОПРЕДЕЛЕНИЯ (СЛАЙДЫ 32-35)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поха зарождения капиталистических отношени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Эпоха зарождения капиталистических отношений, колониальных захватов, великие географические открытия; завоевания и заселения новых земель (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XIII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ек н.э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5" descr="Великие географические открытия. Великие географические открытия европейских путешественников конца 15-в. - середины 17 в. явили"/>
          <p:cNvPicPr/>
          <p:nvPr/>
        </p:nvPicPr>
        <p:blipFill>
          <a:blip r:embed="rId1"/>
          <a:srcRect l="0" t="0" r="25668" b="0"/>
          <a:stretch/>
        </p:blipFill>
        <p:spPr>
          <a:xfrm>
            <a:off x="0" y="3809880"/>
            <a:ext cx="914400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поха зарождения капиталистических отношени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азвитие фабричного производства, мануфактур; расширение посевных площадей, сведение лесов под пашни для нужд строительства, кораблестроени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5" descr="Россия Словарь по истории России"/>
          <p:cNvPicPr/>
          <p:nvPr/>
        </p:nvPicPr>
        <p:blipFill>
          <a:blip r:embed="rId1"/>
          <a:stretch/>
        </p:blipFill>
        <p:spPr>
          <a:xfrm>
            <a:off x="3657600" y="2981160"/>
            <a:ext cx="551664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поха зарождения капиталистических отношени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еликое переселение народов, освоение новых земель; растущее потребление в использовании минеральных, лесных, водных ресурсов, расширении посевных площадей; рост городов; загрязнение воздушного пространств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Picture 5" descr="Красное место - Крепостное право в Енисейской губернии"/>
          <p:cNvPicPr/>
          <p:nvPr/>
        </p:nvPicPr>
        <p:blipFill>
          <a:blip r:embed="rId1"/>
          <a:stretch/>
        </p:blipFill>
        <p:spPr>
          <a:xfrm>
            <a:off x="3048120" y="3446640"/>
            <a:ext cx="6019560" cy="34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поха развития капитализм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8915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Эпоха развития капитализма; эпоха социальных революций, колониальных войн и грабежа колоний; эпоха промышленной революции (середина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XIII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– середина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XX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ека 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5" descr="Развития капитализма в России &quot; Буквы.Ру Научно-популярный портал"/>
          <p:cNvPicPr/>
          <p:nvPr/>
        </p:nvPicPr>
        <p:blipFill>
          <a:blip r:embed="rId1"/>
          <a:stretch/>
        </p:blipFill>
        <p:spPr>
          <a:xfrm>
            <a:off x="1371600" y="2602080"/>
            <a:ext cx="7758000" cy="42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поха развития капитализм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астущие потребности в минеральных ресурсах; рост фабрично-заводской промышленности, формирование промышленных центров, ускоренная урбанизация; расширение посевных площадей, совершенствование агроидустр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5" descr="Всемирная история. Том 7 - Книги. Различные темы"/>
          <p:cNvPicPr/>
          <p:nvPr/>
        </p:nvPicPr>
        <p:blipFill>
          <a:blip r:embed="rId1"/>
          <a:stretch/>
        </p:blipFill>
        <p:spPr>
          <a:xfrm>
            <a:off x="3581280" y="3344760"/>
            <a:ext cx="5562720" cy="34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поха развития капитализм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9056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еобразование естественных ландшафтов, постепенное превращение их в природно-антропогенные; замена первичного растительного покрова вторичным; возросшие масштабы воздействия на атмосферу, гидросферу, литосферу, биосферу; рост масштаба потребления природных ресурсов и                                            загрязнения                                                              окружающей сред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5" descr="Война в США - Независимость США - Картинки по истории"/>
          <p:cNvPicPr/>
          <p:nvPr/>
        </p:nvPicPr>
        <p:blipFill>
          <a:blip r:embed="rId1"/>
          <a:stretch/>
        </p:blipFill>
        <p:spPr>
          <a:xfrm>
            <a:off x="3611520" y="3505320"/>
            <a:ext cx="55436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поха развитого индустриального обществ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Эпоха развитого индустриального общества; ресурсные и национальные конфликты; современный этап НТР (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XX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5" descr="фото: Индустриальный пейзаж II фотограф: Антон Устименко WWW.PHOTODOM.COM"/>
          <p:cNvPicPr/>
          <p:nvPr/>
        </p:nvPicPr>
        <p:blipFill>
          <a:blip r:embed="rId1"/>
          <a:stretch/>
        </p:blipFill>
        <p:spPr>
          <a:xfrm>
            <a:off x="914400" y="2682720"/>
            <a:ext cx="716292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поха развитого индустриального обществ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Техногенез, конкретные изменения в технической базе производства; резкие сдвиги в системе «общество - природная среда»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5" descr="Сборщик RSS-лент Tebe-i-Vsem.ru"/>
          <p:cNvPicPr/>
          <p:nvPr/>
        </p:nvPicPr>
        <p:blipFill>
          <a:blip r:embed="rId1"/>
          <a:stretch/>
        </p:blipFill>
        <p:spPr>
          <a:xfrm>
            <a:off x="2077920" y="2971800"/>
            <a:ext cx="70660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поха развитого индустриального обществ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Гигантские масштабы воздействия человеческого общества на все компоненты окружающей среды; использование ресурсов; глобальное загрязнение планеты; угроза глобального                                                  экологического                                                                  кризиса;                                                                        растущая угроза для                                                       жизни и здоровья                                                            люде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5" descr="&quot;Металл Профиль&quot; разработал первые в России стены для промышленных объектов - Пресс-релиз - Глобальный информационно-аналитическ"/>
          <p:cNvPicPr/>
          <p:nvPr/>
        </p:nvPicPr>
        <p:blipFill>
          <a:blip r:embed="rId1"/>
          <a:stretch/>
        </p:blipFill>
        <p:spPr>
          <a:xfrm>
            <a:off x="3581280" y="3003480"/>
            <a:ext cx="5562720" cy="38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e5e5ff"/>
                </a:solidFill>
                <a:latin typeface="Garamond"/>
              </a:rPr>
              <a:t>Антропогенное воздействие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7" name="Picture 4" descr="Антропогенное воздействие на экологическую обстановку KM.RU"/>
          <p:cNvPicPr/>
          <p:nvPr/>
        </p:nvPicPr>
        <p:blipFill>
          <a:blip r:embed="rId1"/>
          <a:stretch/>
        </p:blipFill>
        <p:spPr>
          <a:xfrm>
            <a:off x="1828800" y="3333600"/>
            <a:ext cx="563868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e5e5ff"/>
                </a:solidFill>
                <a:latin typeface="Garamond"/>
              </a:rPr>
              <a:t>План</a:t>
            </a:r>
            <a:endParaRPr b="1" lang="en-US" sz="45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7800" y="99072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876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Garamond"/>
              </a:rPr>
              <a:t>Природа и общество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876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Garamond"/>
              </a:rPr>
              <a:t>Этапы взаимодействия общества и природы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876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Garamond"/>
              </a:rPr>
              <a:t>Антропогенное воздействие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51444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5" name="Picture 5" descr="Накопление жизненной энергии. Барри Лонг о энергии Gnosis - мир вокруг нас. Новости планеты"/>
          <p:cNvPicPr/>
          <p:nvPr/>
        </p:nvPicPr>
        <p:blipFill>
          <a:blip r:embed="rId1"/>
          <a:stretch/>
        </p:blipFill>
        <p:spPr>
          <a:xfrm>
            <a:off x="3657600" y="2982960"/>
            <a:ext cx="5372280" cy="38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22860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 антропогенным воздействиям относят те виды изменений в окружающей среде, которые вызваны жизнью и деятельностью люде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Picture 9" descr="Экология промышленности"/>
          <p:cNvPicPr/>
          <p:nvPr/>
        </p:nvPicPr>
        <p:blipFill>
          <a:blip r:embed="rId1"/>
          <a:stretch/>
        </p:blipFill>
        <p:spPr>
          <a:xfrm>
            <a:off x="762120" y="1749600"/>
            <a:ext cx="8381880" cy="51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оздействие человека с окружающей природной средой протекает в различных формах и с различной интенсивностью на всех этапах исторического развития . воздействие человека на природу можно классифицировать различным образом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но может быть: прямое и косвенное; длительное и кратковременное; площадное и точечное; глубинное и поверхностное; статистическое и динамическое; глобальное, региональное и локальное; механическое, физическое, химическое и биологическое и  т.д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Классификация антропогенных воздействи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0" y="1523880"/>
          <a:ext cx="8991720" cy="5419800"/>
        </p:xfrm>
        <a:graphic>
          <a:graphicData uri="http://schemas.openxmlformats.org/drawingml/2006/table">
            <a:tbl>
              <a:tblPr/>
              <a:tblGrid>
                <a:gridCol w="2133720"/>
                <a:gridCol w="2360520"/>
                <a:gridCol w="2249640"/>
                <a:gridCol w="2247840"/>
              </a:tblGrid>
              <a:tr h="33552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Эмиссионное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d258e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Фоново -параметрическое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d258e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Ландшафтно-деструктивное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d25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5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еднамеренное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d258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епреднамеренное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d258e"/>
                    </a:solidFill>
                  </a:tcPr>
                </a:tc>
              </a:tr>
              <a:tr h="5362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ыброс загрязняющих природных веществ в воздух, в воду, в почву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епловое, радиоактивное, шумовое, ионизирующее загрязнение (оцениваются измерением их параметров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вляется осознанным, когда человек ожидает определенный результат своей деятельности. Т.Е. приспособление среды к своим потребностям ее «улучшение»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вляется неосознанным, когда человек не предполагет последствий своей деятельности. Они чаще проявляются как побочные эффекты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 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Направления антропогенных воздействи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28600" y="1600200"/>
          <a:ext cx="8763120" cy="5121360"/>
        </p:xfrm>
        <a:graphic>
          <a:graphicData uri="http://schemas.openxmlformats.org/drawingml/2006/table">
            <a:tbl>
              <a:tblPr/>
              <a:tblGrid>
                <a:gridCol w="2190600"/>
                <a:gridCol w="2190960"/>
                <a:gridCol w="2190600"/>
                <a:gridCol w="2190960"/>
              </a:tblGrid>
              <a:tr h="6218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зъятие веществ и энергии из природной среды (добыча полезных ископаемых, вырубка лесов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ивнесение в природную среду веществ и энергии, ранее не существовавших в природе, либо существовавших в незначительных количествах (отходы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82d7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еобразование природных объектов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мелиорация земель, создание искусственных водоемов, осушение болот).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храна используемых природных объектов и окружающей среды в целом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иды антропогенных воздействи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0" y="1676520"/>
          <a:ext cx="8991720" cy="4952880"/>
        </p:xfrm>
        <a:graphic>
          <a:graphicData uri="http://schemas.openxmlformats.org/drawingml/2006/table">
            <a:tbl>
              <a:tblPr/>
              <a:tblGrid>
                <a:gridCol w="2997360"/>
                <a:gridCol w="2997000"/>
                <a:gridCol w="2997360"/>
              </a:tblGrid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Разрушительно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7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табилизирующе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онструктивно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82d75"/>
                    </a:solidFill>
                  </a:tcPr>
                </a:tc>
              </a:tr>
              <a:tr h="4879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Человеческая деятельность, ведущая к утрате природной средой своих полезных человеку качеств (потеря плодородия почв в результате сведения лесов)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7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Человеческая деятельность, направленная на замедление деструкций природной среды в результате, как хозяйственной деятельности человека, так и природных процессов (почвозащитные мероприятия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Человеческая деятельность, направленная на восстановление природной среды, нарушенной в результате хозяйственной деятельности, и человека или природных процессов (восстановление редких видов животных и растений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82d7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Формы антропогенных воздействи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04920" y="1752480"/>
          <a:ext cx="8686800" cy="4800600"/>
        </p:xfrm>
        <a:graphic>
          <a:graphicData uri="http://schemas.openxmlformats.org/drawingml/2006/table">
            <a:tbl>
              <a:tblPr/>
              <a:tblGrid>
                <a:gridCol w="2171520"/>
                <a:gridCol w="2171880"/>
                <a:gridCol w="2171520"/>
                <a:gridCol w="2171880"/>
              </a:tblGrid>
              <a:tr h="4800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зменение структуры земной поверхности (распашка, горнодобыча, вырубка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зменение круговорота и баланса веществ (добыча полезных ископаемых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зменение энергетического баланса (теплообмен, потепление климата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зменение состава животного и растительного мира (истребление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иды антропогенных воздействий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52280" y="1371600"/>
          <a:ext cx="8839440" cy="5334120"/>
        </p:xfrm>
        <a:graphic>
          <a:graphicData uri="http://schemas.openxmlformats.org/drawingml/2006/table">
            <a:tbl>
              <a:tblPr/>
              <a:tblGrid>
                <a:gridCol w="4267440"/>
                <a:gridCol w="4572000"/>
              </a:tblGrid>
              <a:tr h="128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ложительные» воздействия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отрицательные» воздейств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404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- воспроизводство природных ресурсов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- восстановление запасов воды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- полезащитное лесоразведение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- рекультивация земель и др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- истощение природных ресурсов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- деградация природных ландшафтов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- сокращение многообразия видов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- ухудшение здоровья человека и др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e5e5ff"/>
                </a:solidFill>
                <a:latin typeface="Garamond"/>
              </a:rPr>
              <a:t>Природа и общество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57" name="Picture 4" descr="Природа делает нас лучше и щедрее"/>
          <p:cNvPicPr/>
          <p:nvPr/>
        </p:nvPicPr>
        <p:blipFill>
          <a:blip r:embed="rId1"/>
          <a:stretch/>
        </p:blipFill>
        <p:spPr>
          <a:xfrm>
            <a:off x="0" y="2994120"/>
            <a:ext cx="9144000" cy="38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Как нарисовать красивый закат Учитесь рисовать"/>
          <p:cNvPicPr/>
          <p:nvPr/>
        </p:nvPicPr>
        <p:blipFill>
          <a:blip r:embed="rId1"/>
          <a:srcRect l="0" t="0" r="9700" b="0"/>
          <a:stretch/>
        </p:blipFill>
        <p:spPr>
          <a:xfrm>
            <a:off x="-76320" y="63360"/>
            <a:ext cx="9220320" cy="68072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52280" y="396216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Под природой понимают все то, что существует во вселенной, т.е. органический и неорганический мир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Человеческое общество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–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овокупность людей, объединенных исторически обусловленными социально политико-экономическими формами совместной жизни и деятельност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2" name="Picture 5" descr="Сколько людей на планете"/>
          <p:cNvPicPr/>
          <p:nvPr/>
        </p:nvPicPr>
        <p:blipFill>
          <a:blip r:embed="rId1"/>
          <a:stretch/>
        </p:blipFill>
        <p:spPr>
          <a:xfrm>
            <a:off x="3505320" y="2978280"/>
            <a:ext cx="5638680" cy="38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Панорама Новости Армении"/>
          <p:cNvPicPr/>
          <p:nvPr/>
        </p:nvPicPr>
        <p:blipFill>
          <a:blip r:embed="rId1"/>
          <a:stretch/>
        </p:blipFill>
        <p:spPr>
          <a:xfrm>
            <a:off x="2362320" y="2097000"/>
            <a:ext cx="6667560" cy="47815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32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Система 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«Человек – окружающая среда» -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это очень сложная поликомпонентная система, включающая человека (организм, личность, общество) и окружающую среду в историческом процессе их взаимодействи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52280" y="5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ежду природой и обществом существуют сложные взаимодействия, обмен веществом и энергие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7" name="Picture 5" descr="Домбай турфирмы воронежа,загранпаспорт,оформление загранпаспортов, туристические фирмы воронежа, турагентс"/>
          <p:cNvPicPr/>
          <p:nvPr/>
        </p:nvPicPr>
        <p:blipFill>
          <a:blip r:embed="rId1"/>
          <a:stretch/>
        </p:blipFill>
        <p:spPr>
          <a:xfrm>
            <a:off x="2133720" y="1600200"/>
            <a:ext cx="7010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Виденье природы от фотографа Hougaard Malan &quot; NIFIGA-SEBE.RU - фотографии, клипарты, вектор, картинки и шаблоны"/>
          <p:cNvPicPr/>
          <p:nvPr/>
        </p:nvPicPr>
        <p:blipFill>
          <a:blip r:embed="rId1"/>
          <a:srcRect l="0" t="0" r="14286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e5ff"/>
                </a:solidFill>
                <a:latin typeface="Garamond"/>
              </a:rPr>
              <a:t>Этапы взаимодействия общества и природы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1-09-13T04:34:23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